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B070-5938-4E27-B534-31497D096A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35E1-CA88-4793-85C1-03B6F02E3C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FC48-6C71-42A0-ACE6-DB8D599A17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AC5C-1991-47FF-ABD4-95F0FF3DBD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6A66-3FAF-4E1F-8D62-4BB3BD0593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F5E0-2709-40B3-B2D0-92B090E737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68E-067E-4F74-A0E8-FD9A081C93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036C-3D45-4CB8-A06E-C362BFF546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2A12-DDA6-430E-A5FF-A628D15462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4633-DF0E-46E8-9DF5-30CF5CF05B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113F-1945-4A50-9AF5-338E44654F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BDB5-3922-4628-BC3D-7F98424D44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3A3-4E2D-4A56-B3E3-BA85B2344C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C796-4345-415A-A21D-38A9B6FC4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6363-0FB4-41E6-A4E8-6AC951303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A461-F854-40A9-9B84-2046800196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BC4E-06AF-492F-9F13-8A942C852E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5318-4A0B-4EB8-8350-843D6A4290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708-03EF-4442-ABE1-3A2F83B5E7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247-D1EF-483C-9F95-39147B4E8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E752-599D-491C-BD23-A6DE444BB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347-EE24-4DD7-89FD-E6DFE3FE9A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68CE-AAD1-415A-894F-E0D5C47627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8A97-BDD7-4E46-92D6-C3D3ABD365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247E-E63E-451D-B420-FEE583FE1A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C776-5A58-4BE2-BF5C-4626C7E7A0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FBD0-7E23-455B-8A6B-8FF9515BC2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D0E7-F84C-4E41-AAF8-585C0FD8D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B9DB-CDC0-402B-9D5D-B03E465C1B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2A76-5DAC-4468-A6B5-64B3AB1E4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CFE-4407-484C-A0EA-431549BB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E42-96A6-4B9E-A7A2-38F71715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7E2-69A1-459F-8529-C83A8168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9FC-3C57-430C-BAAC-D1F211D5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CDC-4418-4391-A0FB-48CEDBBC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30D-E6C1-4ECD-9946-E82EDE14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885-A7B7-456F-8D1D-F049F515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F74-5F80-477F-B7E7-87BECD27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8B4-BE38-4728-A9C8-C68065A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826-1758-47DF-A7E8-0A82489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86F-2EB6-4C41-9931-08C258C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EC7-3C57-4331-B189-FAEF0F83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3218-BCFF-44F0-AB45-EE5553A39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1-13T08:30:29Z</dcterms:modified>
  <cp:revision>12</cp:revision>
  <dc:subject/>
  <dc:title>ФИЗИКА И ПОЗНАНИЕ МИРА</dc:title>
</cp:coreProperties>
</file>